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E26-D62A-4335-8900-70AFB29B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2F0-5231-4C47-A576-9950EC2E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59A-EFB6-40B7-9927-9A826BF2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033-0D3D-482F-846E-5742F1D5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7238-88CB-481D-902D-566EDFCB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9008-F54F-42D1-A6D8-3FA6B7D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136-730A-44C5-8C6C-D447C173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51E5-8B90-42DD-849B-991916DB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9122-E865-4FA7-8082-E94996C5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7233-7832-4BE6-9C95-39D0C5C4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F060-268D-45E6-96D3-6490C3D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375-01F3-4E13-88DA-0BCDCE7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70C8-B0AD-446E-9E3B-99D2619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11E2-3160-43CB-A9FC-2E03194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FE97-A9BB-46CB-B1DA-ADFE937A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2A4C-1A25-4368-8B4C-7B440483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D94C-74B0-4E63-A9A2-EDCE4A7D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7C6-761D-441B-A4B0-913868AB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F6E-D24A-4721-9C68-624909B3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A5A-4FDE-411A-B778-D83BB7BA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CFE-82E2-4DAC-8D3B-D23C63FC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76E-1707-4F6A-ACED-F0471712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9F3-2F64-4598-9588-89B1CB00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C87-EB27-4720-B5D6-E29AF5D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C007-6350-4980-B472-AA95D9ABDC8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182-4054-4CB4-B994-70AE946281A2}" type="slidenum">
              <a:rPr b="0" lang="en-C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ighered.mheducation.com/olcweb/cgi/pluginpop.cgi?it=swf::800::600::/sites/dl/free/0072482621/59229/Bohr_Nav.swf::The%20Bohr%20Ato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y of Atomic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1028"/>
          <p:cNvSpPr/>
          <p:nvPr/>
        </p:nvSpPr>
        <p:spPr>
          <a:xfrm>
            <a:off x="1905120" y="2971800"/>
            <a:ext cx="5029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1029"/>
          <p:cNvSpPr/>
          <p:nvPr/>
        </p:nvSpPr>
        <p:spPr>
          <a:xfrm>
            <a:off x="3124080" y="1676520"/>
            <a:ext cx="2667240" cy="396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1030"/>
          <p:cNvSpPr/>
          <p:nvPr/>
        </p:nvSpPr>
        <p:spPr>
          <a:xfrm>
            <a:off x="2362320" y="2362320"/>
            <a:ext cx="403848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Oval 1031"/>
          <p:cNvSpPr/>
          <p:nvPr/>
        </p:nvSpPr>
        <p:spPr>
          <a:xfrm>
            <a:off x="4267080" y="3581280"/>
            <a:ext cx="381240" cy="38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Oval 1032"/>
          <p:cNvSpPr/>
          <p:nvPr/>
        </p:nvSpPr>
        <p:spPr>
          <a:xfrm>
            <a:off x="4495680" y="1523880"/>
            <a:ext cx="152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Oval 1033"/>
          <p:cNvSpPr/>
          <p:nvPr/>
        </p:nvSpPr>
        <p:spPr>
          <a:xfrm>
            <a:off x="5867280" y="2743200"/>
            <a:ext cx="152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Oval 1034"/>
          <p:cNvSpPr/>
          <p:nvPr/>
        </p:nvSpPr>
        <p:spPr>
          <a:xfrm>
            <a:off x="2743200" y="4114800"/>
            <a:ext cx="15228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Gold Foil (Geiger Muller) Exper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nst Rutherford shot alpha particles at extremely thin gold f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went right through with little deflection, but some bounced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sult was thought to be like cannon balls bouncing off tissue pap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My Documents\School\sc9\gold foil.gif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utherford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alpha particles must have bounced off an area of the atom that is positively charged and extremely de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therford concluded that the atom has a dense positive nucleus with electrons orbiting ar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C:\My Documents\School\sc9\Rutherford model.gif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26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828800" y="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therford Model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iels Boh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C:\My Documents\School\sc9\bohr.jpg"/>
          <p:cNvPicPr/>
          <p:nvPr/>
        </p:nvPicPr>
        <p:blipFill>
          <a:blip r:embed="rId1"/>
          <a:stretch/>
        </p:blipFill>
        <p:spPr>
          <a:xfrm>
            <a:off x="2862360" y="1841400"/>
            <a:ext cx="348588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hr Model 19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emitted from matter at particular energies, or qua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ght is produced when electrons move from high energy states to low energy stat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lectrons exist in particular orbi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My Documents\School\sc9\Bohr mode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68560"/>
            <a:ext cx="9144000" cy="45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um Mechanics shows how there is a limit to our ability to determine the motion and position of partic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ion of objects is described using a wave equation,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here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probability distribution of the object.  Graphing </a:t>
            </a:r>
            <a:r>
              <a:rPr b="0" lang="en-CA" sz="2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CA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an electron around the hydrogen atom we obtain orbital sha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:\My Documents\School\sc9\s orbital.gif"/>
          <p:cNvPicPr/>
          <p:nvPr/>
        </p:nvPicPr>
        <p:blipFill>
          <a:blip r:embed="rId1"/>
          <a:stretch/>
        </p:blipFill>
        <p:spPr>
          <a:xfrm>
            <a:off x="1066680" y="76320"/>
            <a:ext cx="7010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My Documents\School\sc9\p orbitals.gif"/>
          <p:cNvPicPr/>
          <p:nvPr/>
        </p:nvPicPr>
        <p:blipFill>
          <a:blip r:embed="rId1"/>
          <a:stretch/>
        </p:blipFill>
        <p:spPr>
          <a:xfrm>
            <a:off x="0" y="2089080"/>
            <a:ext cx="91440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mocritus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460-360 BC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My Documents\School\Phy 11\stuf\democritus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My Documents\School\sc9\d orbitals.gif"/>
          <p:cNvPicPr/>
          <p:nvPr/>
        </p:nvPicPr>
        <p:blipFill>
          <a:blip r:embed="rId1"/>
          <a:stretch/>
        </p:blipFill>
        <p:spPr>
          <a:xfrm>
            <a:off x="216216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dwick 1931 discovered that the nucleus contains protons and neu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and neutrons are composed of quarks (1964 Gell-Mann and Zweig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rong force between the quarks is what holds the nucleus together and produces massive amounts of energy in a nuclear reac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side the Nucle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584 Q 1.1-1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ings are composed of minute, invisible and indivisible particles, atoma, (indivisibles) in constant motion through otherwise empty space, keno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istot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is composed of 4 elements, Earth, Air, Fire, Water and there is no empty space – it is filled with Æ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ton 1800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s are composed of elements combined together in certain propor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r Joseph John Thompson 190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ed the nature of cathode 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noticed that they had particle like properties and were identical regardless of the material producing the r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C:\My Documents\School\sc9\JJThompson.gif"/>
          <p:cNvPicPr/>
          <p:nvPr/>
        </p:nvPicPr>
        <p:blipFill>
          <a:blip r:embed="rId1"/>
          <a:stretch/>
        </p:blipFill>
        <p:spPr>
          <a:xfrm>
            <a:off x="5153040" y="1981080"/>
            <a:ext cx="2800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um-Pudding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rd Kelvin and JJ Thompson concluded that the atom was composed of tiny negatively charged electrons and positive charge mixed together. This was called the Plum-Pudding Mode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My Documents\School\sc9\thomson model.gif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752480" y="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um-Pudding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6400800"/>
            <a:ext cx="472428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C:\My Documents\School\sc9\rutherford.jpg"/>
          <p:cNvPicPr/>
          <p:nvPr/>
        </p:nvPicPr>
        <p:blipFill>
          <a:blip r:embed="rId1"/>
          <a:stretch/>
        </p:blipFill>
        <p:spPr>
          <a:xfrm>
            <a:off x="2789280" y="1847880"/>
            <a:ext cx="3662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0:47:02Z</dcterms:created>
  <dc:creator>Sir Winston Churchill Secondary</dc:creator>
  <dc:description/>
  <dc:language>en-US</dc:language>
  <cp:lastModifiedBy>Adam Mathew Klaassen</cp:lastModifiedBy>
  <dcterms:modified xsi:type="dcterms:W3CDTF">2017-02-09T23:38:29Z</dcterms:modified>
  <cp:revision>32</cp:revision>
  <dc:subject/>
  <dc:title>Sir Joseph John Thompson</dc:title>
</cp:coreProperties>
</file>